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6E6D-B004-4AA8-863C-B96B86AA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6CCC-5B00-4AAB-AB14-A7116C39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0A66-4830-4D02-9E0D-13F1AA81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1098-C3DD-43D1-AECA-22DF4669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C0EA-FBAC-46F7-9CA6-F9FA9659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7404-9DF6-49D7-AE24-8129E170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7C47-65D8-46CA-817C-E54A2628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B4BA-8461-4766-8E28-EBF13CF6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B48C-2A25-4C35-AAF1-EC11A879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85C2-4745-4910-BAB4-7063F2AF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78B3-A870-4F85-98C3-06A8CC76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36F3-32F9-42E3-AC44-574AAC84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439B-B549-4493-A974-B7BB9756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442A-008B-494D-8D69-CBD6A231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2395-8E36-49B5-8000-D5B6C1AC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20B7-F8AA-4729-B5C8-58AFDD59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C335-8E01-4142-BED8-5197F8BD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861E3-1836-4CA2-9E37-A8B199E17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EFA39-B890-447E-8C85-2F9DBD9F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8F7D5-4467-4B4E-8F17-47488179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AFBAE-A2B9-4157-805F-BB1C32A9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DD1FC-18BD-4A1D-9374-7B9C8F25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3FA6-965C-47C1-B7AC-BE4E0FF1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F3079-9DF4-4B66-B0A9-7CCC8077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569EB-DF84-4A58-91CA-0292A8C6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AB8CD-E61D-4116-B63D-5EF6494C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170BF-6BB0-41A2-9F9C-061F199D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EEB3F-E973-4635-80D5-3E527F02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02011-EB71-4506-9236-604E510E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E8741-6B1E-4EAA-8ED7-541234B3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E445F-41F3-4E4C-9480-F6060D65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138D5-22FF-4F01-AE62-7C2DCE13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22333-30CB-4426-8636-473F5FB8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28EB-F489-4CB4-BCEA-F4D1EBFB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55AC0-CEF0-4F03-8C3F-7DBF203A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7B626-F370-48C9-AED4-3EF72774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53DF6-DFE5-4FE9-B63E-5D96955C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96E94-C7E7-48FE-BD6C-693992EC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55AF2-D1F8-4CF6-825F-B56B134D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F1B1E-AE8C-49A6-9B0F-86D2DA6E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2CD27-E2D4-4537-88FA-22F3BA40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FA6E4-4CA8-4C9B-8F2F-38262568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E4A48-7599-45C0-BB0E-753C8EFF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FBF40-6F8D-4305-B9B1-90603C6F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4B9B-7001-4C92-B29F-69D3777D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3EAC6-5781-4E78-88E9-CDFC204A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A17A2-C635-4BE8-BB9E-3526C31E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6FF1E-3D7F-4A7B-A6FF-36A96FDE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8FFCA-7FBE-4423-AFCF-ABBEB950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DD75B-0758-4BBB-9DBA-532FF4C1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80D8A-8109-483A-B897-3A6C4003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DA4E8-159E-46D7-84D8-E57BEA6F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C5A58-4DD8-4035-88BF-55067862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0907D-2730-41DE-98B0-391C5D12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4E260-FF3C-4AB2-9A86-7A419CA1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92D7-EF60-40AC-876E-413F5CC9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3B90A-5280-4DFE-9FAC-EF8AC9CD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ABAFF-1E6E-4D5B-8CED-2772974E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4C84B-DF38-42FA-AFC6-20FA39C4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EFB6F-360D-4BCB-8110-EB33F761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FE7AE-5224-47C5-893D-03DDCF6D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44C88-FB25-469C-9F4B-A4CE0C6D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1F286-2D36-4B4D-A898-B3BCE63F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F4555-0471-41B9-8053-E225C343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4E583-24CA-4B45-9ED6-7DB02559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2B683-0E7B-4213-95FA-1CDCDC05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550C-1598-4A13-B6AA-F8A8A53F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3B907-7588-47E8-83EB-2E0CCD3C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BEDAB-7944-4CEE-B693-0FA273CF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5AE1A-A1BD-41B8-A73A-079AD480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A115C-131B-41F1-B8CB-CB098D13F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79A8B-6850-419B-B5B7-BBEB09C6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B3159-96A2-48EB-B272-73AB5AA2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293F5-0D74-4E37-AD20-63B9A94A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91174-B8B6-4415-90E3-71131027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C1E88-BE48-4771-911C-72DFA8CD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7B6E3-2F23-4D39-9481-419A7E51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B45C-FEF0-497A-A459-9E499E54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F6E56-778E-4BD2-BBED-A7043CEA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2AAC7-B848-4F4F-AA9C-B7BD71EC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1A51B-CC65-4632-B28B-436349EE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ABB63-7B9B-47A6-9AA0-9C1D08B4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4D272-92D0-42AD-88C2-CD13E855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6CAC6-649E-47E2-87A2-F4606164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A2031-444D-438C-B175-4A19B10D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18753-B05E-4D3C-A068-062FF1AB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DDC1F-B6E2-45AE-A775-6F66CB26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01A74-BB53-4DCE-9107-CAD39F5C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9F1B-556C-4BF1-A2CF-9A526B6F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0F752-28BF-4901-B65A-9ED235E6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0C237-C381-4F77-B4E2-645D0E44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37C3F-E313-4A65-B7B2-6812E8A0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55335-A2B2-4730-BDBC-11251A45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8D81E-C40F-4495-90B7-94B5AB1C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7E1CB-86A0-4DC0-8349-81ECA0C0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F066D-6ABA-4079-A292-5E5910FC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3CB1-73A8-4A26-8FE0-927AA7599A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6FC2-67DF-4BEB-9D53-123A45664F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270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270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CFD7-90D7-4B3C-9448-89208513B8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A253-746D-43C2-AF80-A8254E32D5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7EDF-8E99-4651-8781-892105A1F7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4785-A2C3-42BD-A291-C99A7C2035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8E5B-DA36-4EF5-A325-A242E1076B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270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270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7ED0-795D-41A0-A7F1-9567498FBF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228240" y="1856880"/>
            <a:ext cx="862956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7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CRB’S EXPERIENCE ON CAPACITY BUILDING OF LOCAL CONTRACTO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31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13</a:t>
            </a:r>
            <a:r>
              <a:rPr b="1" i="1" lang="en-ZA" sz="2400" spc="-1" strike="noStrike" baseline="30000">
                <a:solidFill>
                  <a:srgbClr val="000000"/>
                </a:solidFill>
                <a:latin typeface="Garamond"/>
                <a:ea typeface="Times New Roman"/>
              </a:rPr>
              <a:t>th</a:t>
            </a:r>
            <a:r>
              <a:rPr b="1" i="1" lang="en-ZA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April, 2023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resenter: </a:t>
            </a:r>
            <a:r>
              <a:rPr b="1" i="1" lang="en-ZA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i="1" lang="en-ZA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D. Jere; Assistant Registrar – </a:t>
            </a:r>
            <a:r>
              <a:rPr b="1" i="1" lang="en-ZA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i="1" lang="en-ZA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i="1" lang="en-ZA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i="1" lang="en-ZA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i="1" lang="en-ZA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i="1" lang="en-ZA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search   and Develop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225360" y="438120"/>
            <a:ext cx="8497800" cy="1281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"/>
          <p:cNvPicPr/>
          <p:nvPr/>
        </p:nvPicPr>
        <p:blipFill>
          <a:blip r:embed="rId2"/>
          <a:stretch/>
        </p:blipFill>
        <p:spPr>
          <a:xfrm>
            <a:off x="3286080" y="2654280"/>
            <a:ext cx="271152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228240" y="785520"/>
            <a:ext cx="86295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Study Tours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ore than 8 countries with more advanced construction industries worldwide visit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Usually few contractors participate in study tours due relatively higher costs of particip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In recent years, study tours abroad affected by covid-19 related restriction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66600" y="208080"/>
            <a:ext cx="865656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228240" y="785520"/>
            <a:ext cx="86295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Garamond"/>
              </a:rPr>
              <a:t>JOINT VENTURES &amp; DISPENSATION:-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Garamond"/>
              </a:rPr>
              <a:t>Aimed at enabling local contractors to access projects above their thresholds, within the law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Garamond"/>
              </a:rPr>
              <a:t>At least 1 JV training conducted annually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Garamond"/>
              </a:rPr>
              <a:t>For the year 2022, some 35 JV projects worth a total of TZS 96.3 bn were registered by local contractors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Garamond"/>
              </a:rPr>
              <a:t>For the year 2022, some 26 dispensation projects worth TZS 41.9bn were registered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600" spc="-1" strike="noStrike">
                <a:solidFill>
                  <a:srgbClr val="000000"/>
                </a:solidFill>
                <a:latin typeface="Garamond"/>
              </a:rPr>
              <a:t>Some JVs are only bidding vehicles, project implementation is done single-handedly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600" spc="-1" strike="noStrike">
                <a:solidFill>
                  <a:srgbClr val="000000"/>
                </a:solidFill>
                <a:latin typeface="Garamond"/>
              </a:rPr>
              <a:t>There is perception among some contractors and some employers that JVs do not perform in projects</a:t>
            </a:r>
            <a:r>
              <a:rPr b="0" lang="en-ZA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9780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228240" y="785520"/>
            <a:ext cx="86295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14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Garamond"/>
              </a:rPr>
              <a:t>Consultative meetings, Workshops and Conferences:-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Feedback from stakeholders that assist the Board to improve its performance, establishment and improvement of initiativ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Important fora for identification and discussion of challenges facing contractors and the industry and finding solution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Important fora for the Government to identify issues in the industry and find ways to address the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Most of the Board’s initiatives can be attributed to ACM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Some improvements toward a more conducive environment result from these meetings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9780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228240" y="785520"/>
            <a:ext cx="86295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Deliberate Capacity Building Efforts:-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imed at enabling local contractors to access, execute and gain experience in implementation of large projects through stakeholders engageme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Board leadership conduct visits to major employers to create awareness on importance of providing work opportunities especially high value projects to local contracto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ost employers have been positive; the Govt. has set aside 2 projects (road upgrading to bitumen) for capacity building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66600" y="208080"/>
            <a:ext cx="865656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28240" y="1142640"/>
            <a:ext cx="8629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Deliberate Efforts by the Government and other stakeholde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 Government should Trust Local contractors and deliberately build their capacity;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Whenever possible, Public employers should use the services of local contractors.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66600" y="225360"/>
            <a:ext cx="86565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228240" y="1142640"/>
            <a:ext cx="8629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221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mployers should observe provisions that create conducive environment for contractors’ growth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Observe local exclusivity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for Government funded projects worth not more than TZS 10bn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t aside special projects for capacity building of local contractors.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mplementation should include a training and mentorship compone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ostly,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use contractors’ service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. Force account should be used only when it is necessary like in case of emergencies, very small projects, client confidentiality, etc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66600" y="225360"/>
            <a:ext cx="86565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28240" y="1142640"/>
            <a:ext cx="8629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Deliberate Efforts .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ffective preparations of projects;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Employers should ensure that tender documents; conditions, specifications, drawings etc. are well prepared as this will enable contractors to bid competitively and implement the projects efficientl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mployers should fulfill their Contractual obligations;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Employers should ensure a project is well supervised and that contractors are timely paid. It is the Employer</a:t>
            </a:r>
            <a:r>
              <a:rPr b="0" lang="ja-JP" sz="2800" spc="-1" strike="noStrike">
                <a:solidFill>
                  <a:srgbClr val="000000"/>
                </a:solidFill>
                <a:latin typeface="Garamond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 obligation to fund his/her projec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66600" y="225360"/>
            <a:ext cx="86565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228240" y="1142640"/>
            <a:ext cx="8629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mployers should choose options that provide relief in costs to contractor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henever the project value is not more than TZS 10bn, specify the use of bid securing declaration instead of other forms of bid securit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henever possible, specify the use of insurance bond instead of bank guarantee (for bid and performance security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66600" y="225360"/>
            <a:ext cx="86565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228240" y="1142640"/>
            <a:ext cx="8629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Contractors’ effor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Contractors should fulfill their Contractual obligations;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Contractors should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aramond"/>
              </a:rPr>
              <a:t>committed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and ensure that all inputs required for the project, e.g. personnel, plant and equipment, funds, etc are deployed for the projects. 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Use of professionals’ services is insisted.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Contractors should use Joint Ventures;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formation of strategic alliances to qualify to bid and execute high value projects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66600" y="225360"/>
            <a:ext cx="86565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28240" y="928800"/>
            <a:ext cx="86295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CRB Capacity Building manda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CRB Capacity Building Initiativ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Recommendations on what should be done by different stakeholders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225360" y="158760"/>
            <a:ext cx="84978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228240" y="785520"/>
            <a:ext cx="86295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Board Establishment and capacity building mandat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Local Contractor Development is among the Board’s main functions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18040" indent="-210240">
              <a:lnSpc>
                <a:spcPct val="90000"/>
              </a:lnSpc>
              <a:spcBef>
                <a:spcPts val="374"/>
              </a:spcBef>
              <a:buClr>
                <a:srgbClr val="eb641b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Garamond"/>
              </a:rPr>
              <a:t>At the Board’s establishment in 1997, the three main Board functions were registration, enforcement of contractors’ activities and conduct and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Garamond"/>
              </a:rPr>
              <a:t>development of local contractors</a:t>
            </a:r>
            <a:r>
              <a:rPr b="0" i="1" lang="en-GB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CRB initiatives aim at improving local contractors’ competence and capac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18040" indent="-210240">
              <a:lnSpc>
                <a:spcPct val="90000"/>
              </a:lnSpc>
              <a:spcBef>
                <a:spcPts val="374"/>
              </a:spcBef>
              <a:buClr>
                <a:srgbClr val="eb641b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Garamond"/>
              </a:rPr>
              <a:t>Ability to undertake projects effectively, successfully and efficientl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18040" indent="-210240">
              <a:lnSpc>
                <a:spcPct val="90000"/>
              </a:lnSpc>
              <a:spcBef>
                <a:spcPts val="374"/>
              </a:spcBef>
              <a:buClr>
                <a:srgbClr val="eb641b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Garamond"/>
              </a:rPr>
              <a:t>Timely delivery, specified quality, compliance and anticipated profi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9780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28240" y="785520"/>
            <a:ext cx="86295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Identification of factors hindering growth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Conducting Research/studies in different areas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6040" indent="-253800">
              <a:lnSpc>
                <a:spcPct val="90000"/>
              </a:lnSpc>
              <a:spcBef>
                <a:spcPts val="374"/>
              </a:spcBef>
              <a:buClr>
                <a:srgbClr val="eb641b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Garamond"/>
              </a:rPr>
              <a:t>e.g Study on Construction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Garamond"/>
              </a:rPr>
              <a:t>Plant &amp;  Equipment Availability, Skills problems, OHS compliance, application of affirmative legislations, etc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Collection and analysis of data and information from different sources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6040" indent="-253800">
              <a:lnSpc>
                <a:spcPct val="90000"/>
              </a:lnSpc>
              <a:spcBef>
                <a:spcPts val="374"/>
              </a:spcBef>
              <a:buClr>
                <a:srgbClr val="eb641b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Garamond"/>
              </a:rPr>
              <a:t>e.g. Annual Return forms, project registration, stakeholders consultative meetings, conferences etc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9780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228240" y="785520"/>
            <a:ext cx="86295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58840" indent="-181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Identified challenges facing local contracto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Inadequate financial capacity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77720" indent="-193680">
              <a:lnSpc>
                <a:spcPct val="90000"/>
              </a:lnSpc>
              <a:spcBef>
                <a:spcPts val="374"/>
              </a:spcBef>
              <a:buClr>
                <a:srgbClr val="eb641b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aramond"/>
              </a:rPr>
              <a:t>Inability to access financial opportunities, inadequate capacity to own or access equipment hire services, inability to access the services of technical and management skill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Inadequate construction business skills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77720" indent="-193680">
              <a:lnSpc>
                <a:spcPct val="90000"/>
              </a:lnSpc>
              <a:spcBef>
                <a:spcPts val="374"/>
              </a:spcBef>
              <a:buClr>
                <a:srgbClr val="eb641b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aramond"/>
              </a:rPr>
              <a:t>Inability to bid competitively, inadequate project and contract managem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Inadequate conducive environment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77720" indent="-193680">
              <a:lnSpc>
                <a:spcPct val="90000"/>
              </a:lnSpc>
              <a:spcBef>
                <a:spcPts val="374"/>
              </a:spcBef>
              <a:buClr>
                <a:srgbClr val="eb641b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aramond"/>
              </a:rPr>
              <a:t>Several challenges posed by the legislative structure and or stakeholders’ conduc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Initiatives to address the identified challenges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77720" indent="-193680">
              <a:lnSpc>
                <a:spcPct val="90000"/>
              </a:lnSpc>
              <a:spcBef>
                <a:spcPts val="374"/>
              </a:spcBef>
              <a:buClr>
                <a:srgbClr val="eb641b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aramond"/>
              </a:rPr>
              <a:t>Financial skills enhancement and suppor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77720" indent="-193680">
              <a:lnSpc>
                <a:spcPct val="90000"/>
              </a:lnSpc>
              <a:spcBef>
                <a:spcPts val="374"/>
              </a:spcBef>
              <a:buClr>
                <a:srgbClr val="eb641b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aramond"/>
              </a:rPr>
              <a:t>Enhancement of project and contract management skill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77720" indent="-193680">
              <a:lnSpc>
                <a:spcPct val="90000"/>
              </a:lnSpc>
              <a:spcBef>
                <a:spcPts val="374"/>
              </a:spcBef>
              <a:buClr>
                <a:srgbClr val="eb641b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aramond"/>
              </a:rPr>
              <a:t>Enhancement of skills and support to access work opportunities and creation of a more conducive growth environ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77720" indent="-193680">
              <a:lnSpc>
                <a:spcPct val="90000"/>
              </a:lnSpc>
              <a:spcBef>
                <a:spcPts val="374"/>
              </a:spcBef>
              <a:buClr>
                <a:srgbClr val="eb641b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9780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228240" y="785520"/>
            <a:ext cx="86295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CONTRACTORS ASSISTANCE FUND (CAF):-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Aimed at enabling contractors to access and undertake projects (est. 2002, growing) through provision of bank guarantees for bid and advance payment security requiremen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Has been improved to enable local contractors of any class to access CAF services and max. guarantee has been raised to TZS 100m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9780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228240" y="785520"/>
            <a:ext cx="86295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CAF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At a TZS 4 bn capital, in the year 2022, CAF guaranteed some 236 projects worth a total of TZS 129. 95bn supporting the contractors for advance payment of a total of TZS 14.78b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800" spc="-1" strike="noStrike">
                <a:solidFill>
                  <a:srgbClr val="000000"/>
                </a:solidFill>
                <a:latin typeface="Garamond"/>
              </a:rPr>
              <a:t>Inadequate guarantee amount and inability to cater for performance guarante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800" spc="-1" strike="noStrike">
                <a:solidFill>
                  <a:srgbClr val="000000"/>
                </a:solidFill>
                <a:latin typeface="Garamond"/>
              </a:rPr>
              <a:t>Cases of default have been experienced, 4 cases</a:t>
            </a: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9780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28240" y="785520"/>
            <a:ext cx="86295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51640" indent="-1760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ZA" sz="2800" spc="-1" strike="noStrike">
                <a:solidFill>
                  <a:srgbClr val="000000"/>
                </a:solidFill>
                <a:latin typeface="Garamond"/>
              </a:rPr>
              <a:t>TRAINING:-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Training to enhance contractors’ technical and business skills and exposure to best practic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Sustainable Structured Training Programme (SSTP) est. 2001with more than 20 training modul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Garamond"/>
              </a:rPr>
              <a:t>Reviewed periodically to ensure its relevance; improved from KBET to CBET, increased Board subsidy, reduced training duration from 5 to 3 days, et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n average of 4 to 6 courses conducted annuall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ome contractors do not attend trainings or do not send representatives strategicall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ome contractors do not practice what they lear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Specialised training on topical issues; Joint Ventures, Design-Build, FIDIC conditions of contract, TANEPS, etc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0" i="1" lang="en-ZA" sz="2400" spc="-1" strike="noStrike">
                <a:solidFill>
                  <a:srgbClr val="000000"/>
                </a:solidFill>
                <a:latin typeface="Garamond"/>
              </a:rPr>
              <a:t>Addresses emerging training needs</a:t>
            </a: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9780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228240" y="785520"/>
            <a:ext cx="86295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19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ZA" sz="2800" spc="-1" strike="noStrike">
                <a:solidFill>
                  <a:srgbClr val="000000"/>
                </a:solidFill>
                <a:latin typeface="Garamond"/>
              </a:rPr>
              <a:t>TRAINING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Specialised training on topical issues; Joint Ventures, Design-Build, FIDIC conditions of contract, TANEPS, etc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Garamond"/>
              </a:rPr>
              <a:t>Addresses emerging training need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pecial courses conducted as needs aris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udy Tours/visi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Aimed at exposing contractors to new and modern construction and management techniques and technolog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Enables contractors to establish business networks with fellow contractors, suppliers etc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9780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07:58:56Z</dcterms:created>
  <dc:creator>Mr Joe Malongo</dc:creator>
  <dc:description/>
  <dc:language>en-US</dc:language>
  <cp:lastModifiedBy>User</cp:lastModifiedBy>
  <dcterms:modified xsi:type="dcterms:W3CDTF">2023-04-13T03:37:47Z</dcterms:modified>
  <cp:revision>1196</cp:revision>
  <dc:subject/>
  <dc:title>Baseline Study on Labour Practices in Tanzania</dc:title>
</cp:coreProperties>
</file>